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48A-EDF8-4257-8B41-999E39B4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78A-4EDE-4A2E-84A6-7895D7C4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DE3-88C0-442A-B3F9-ACE82070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75D-2F27-4478-A4A1-B70CCE61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0CD-A34A-41F6-93BF-AC5E6469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AF9-93AA-47B2-B3B7-2344E32B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0D3-FF58-49A5-B126-D3881036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CB4-E78E-46A7-B4D4-2BE626A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3F6-DB5E-43C0-91D5-42AFA10F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B6B-08A0-4082-9387-72BBA15F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1D8-2EF5-4114-9068-3485B764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019-637F-4D45-AB66-DF9F17D8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1F03-561F-429B-97C3-26EF79F6D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edy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to dynamic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1: Making Change Proof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dy is optimal for coin set C = {1, 3, 9, 27, 8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S be an optimal solution and G be the greedy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the number of coins of size k in soluti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kdiff be the largest value of k s.t.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≠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 1: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d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≥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d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 2: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≥ 3 for some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d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 3: We can create a better solution than S by performing a “swap”.  What sw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claims imply kdiff does not exist and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pt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of that Greedy is NOT opt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following coin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{1, 3, 6, 12, 24, 3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greedy will not produce an optimal solution for all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bout the following coin s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{1, 5, 10, 25, 5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selec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n intervals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≥ 0 for all intervals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 maximal set of intervals that do not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0,2), (1,3), (5,7), (6, 11), (8,10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{(1,3), (5,7), (8,10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sible Greedy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he shortest interval and rec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he interval that starts earliest and rec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he interval that ends earliest and rec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he interval that starts latest and rec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he interval that ends latest and rec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ny of these strategie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iest end tim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intervals by e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Choose the interval with the earliest end time breaking ties arbitrar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une intervals that overlap with this interval and goto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instance of the problem, there exists an optimal solution that includes an interval with earliest en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S be an optim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S does not include an interval with the earliest en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swap the interval with earliest end time in S with an interval with earliest overall end time to obtain feasible solution 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’ has at least as many intervals as S and the result fol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cursively apply this observation to the subproblem induced by selecting an interval with earliest end time to see that greedy produces an optim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est Interval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intervals by interval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Choose the interval with shortest length breaking ties arbitrar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une intervals that overlap with this interval and goto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Optim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instance of the problem, there exists an optimal solution that includes an interval with earliest e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S be an optim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S does not include a shortest inter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produce an equivalent solution S’ from S that includes a shortest interv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how does this lead to a counterexam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n jobs with length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these jobs on a single processor so tha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ll job completion times are min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A (length 2), Job B (length 1), Job C (length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on times: A:3, B:1, C:6 for a sum of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greedy strategy and prove it 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Minimizing sum of completion ti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792240" y="4648320"/>
            <a:ext cx="2988000" cy="550800"/>
            <a:chOff x="3792240" y="4648320"/>
            <a:chExt cx="2988000" cy="550800"/>
          </a:xfrm>
        </p:grpSpPr>
        <p:sp>
          <p:nvSpPr>
            <p:cNvPr id="107" name=""/>
            <p:cNvSpPr/>
            <p:nvPr/>
          </p:nvSpPr>
          <p:spPr>
            <a:xfrm>
              <a:off x="3886200" y="4648320"/>
              <a:ext cx="457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43400" y="4648320"/>
              <a:ext cx="9144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57800" y="4648320"/>
              <a:ext cx="1371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92240" y="4937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49440" y="4952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63840" y="4952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5440" y="4952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unning time of your algorith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it ever make sense to preempt a job?  That is, start a job, interrupt it to run a second job (and possibly others), and then finally finish the first jo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develop a swapping proof of optimality for your algorith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aking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integer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a minimal multiset of coins from C = {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such that the sum of all coins chosen equal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3, C = {1, 3, 6, 12, 24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3 coins of size 24, 1 coin of siz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programming solu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olutions: T(k) for 0 ≤ k ≤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ce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n) =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(i) + T(n-i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array of values to 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to compute each e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T(k) starting at T(1) skipping base cas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programming solu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olutions: T(k) for 0 ≤ k ≤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ce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(n) = mi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(n-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re has to be a “first/last” c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array of values to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ime to compute each ent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(k) starting at T(1) skipping base cas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edy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yn prog 2: T(n) =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(n-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any (but not all) sets of coins, the optimal choice for the first/last coin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always be the maximum possible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T(n) = T(n-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1 where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argest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largest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er than n and rec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752480"/>
            <a:ext cx="6096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7360" y="1870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8320" y="2895480"/>
            <a:ext cx="6096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920" y="3013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23520" y="3013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46000" y="2971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n-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8320" y="3962520"/>
            <a:ext cx="6096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920" y="40798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10880" y="40798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53360" y="4114800"/>
            <a:ext cx="102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n-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68320" y="4952880"/>
            <a:ext cx="6096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0200" y="50706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82960" y="5070600"/>
            <a:ext cx="6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3160" y="5105520"/>
            <a:ext cx="12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n-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952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3160" y="5070600"/>
            <a:ext cx="6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952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07040" y="5070600"/>
            <a:ext cx="6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edy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ying to solve a problem, make a local greedy choice that optimizes progress towards global solution and rec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/running time analysis is typically straight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mplementation involves use of a sorting algorithm or a data structure to facilitate identification of next greedy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optimality is typically the hard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s of 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often prove some structural properties about an optim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Every optimal solution to the making change problem has at most x coins of denomination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often prove that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timal solution is the one generated by the greedy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have an optimal solution that does not obey the greedy constraint, we can “swap” some elements to make it obey the greedy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onsider the possibility that greedy is not optimal and consider counter-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1: Making Change Proof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dy is optimal for coin set C = {1, 3, 9, 27, 8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property of any optimal 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y optimal solution, the number of coins of denomination 1, 3, 9, and 27 must be at most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ructural property immediately leads to the fact that the greedy solution must be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0T19:07:53Z</dcterms:created>
  <dc:creator>Eric Torng</dc:creator>
  <dc:description/>
  <dc:language>en-US</dc:language>
  <cp:lastModifiedBy>Eric Torng</cp:lastModifiedBy>
  <dcterms:modified xsi:type="dcterms:W3CDTF">2007-03-11T14:29:27Z</dcterms:modified>
  <cp:revision>40</cp:revision>
  <dc:subject/>
  <dc:title>Boyer-Moore Algorithm</dc:title>
</cp:coreProperties>
</file>